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027-4005-4EFF-8BD5-28654DF908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particles (grey) covering a white blood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HIV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infection- flu like symptoms a few weeks after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-HIV positive with no symptoms- can stay at this stage for up to 10 years, but still can pass on the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-HIV positive with symptoms- at this point the person is said to have AIDS. Symptom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III-Full blown AID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of rare opportunistic infections that take advantage the weakened immun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dies in a matter of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related illnesses include rare cancers and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s thought to have entered into humans somewhere between 1914 and 19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receiving blood or blood products before 1985 may have been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d Immune Deficiency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mune crippling disease caused by the HIV virus in which the body becomes unable to protect itself against any secondary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Human Immunodeficiency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infects the immune system cell called the Helper T cells (-most important white blood cell involved in identifying infection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Fluids with High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/Vaginal fluids (as high as blo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from 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concentration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ighly unlikely you will be infected if you come into contact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(-highly possible if blood from mouth sores is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ype of sexual activity (highest r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used drug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-from mother to ch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razors- if blood i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s/body piercing if equipment is not cl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no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king h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ilet s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HIV be cu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! Drugs are available to manage the disease, but HIV stays in the body fore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RNA viruses mutate at a very high rate.  A person with HIV under control can evolve resistance to the drug trea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ed persons have several strains of HIV in their 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CE5-B0EA-47D5-91D5-D5BF2640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6C0-8DFC-4798-83A7-2BA0A9F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F59-F3B2-462C-A067-4794D6D9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B7A-F8EC-4C29-87C4-DAA11BB7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BB67-CAAB-4DDB-A534-953BD151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2488-5370-482B-BFDD-12FA095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A746-B9C0-4288-9563-1AE049A8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14CA-7EC8-4F76-9F2C-9672AC0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8955-39BD-4927-9721-9285C41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2D2-0DE5-413F-A1EA-5B850CDB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2B91-6CC1-46F6-B782-02F07D6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1C7-97D4-4131-ADD8-663853EB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D555-76C4-432E-8AFD-4D03E44B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CBFF-675E-4439-A3BE-7357CAE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8E85-E5CC-42FF-A0A5-8F8D27EE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14EF-AA85-4FCE-9CF3-93AE259D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BA60-1140-49A5-AABC-2932AA7D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35A-E8BE-447B-B740-1F206010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774-4A85-4FB3-8C48-E36FE0AC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1DF-A998-4B6D-BA37-459DA7D2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3C4-3364-4CCE-A560-E506D6BC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943-6080-4D8C-B051-FA3ABEE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A17-F594-4D69-9DB2-7D0BFBE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899-B36A-477F-A39B-1AE7203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31E-F148-4A3B-8606-6385217889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B906-2C86-41F0-8DFE-4FD711D740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45720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"/>
              </a:rPr>
              <a:t>HIV Not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962520" y="5638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IV particles (grey) covering a white blood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does HIV look lik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itial infec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lu like symptoms a few weeks after inf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1-HIV positive with no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stay at this stage for up to 10 years, but still can pass on the vir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ge 2-HIV positive with symptoms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is point the person is said to hav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ymptoms inclu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ollen glands, chronic diarrhea, loss of weight and appetite, fever, fatigue, skin rashes (lesions), night sweats, oral thrush.  Life expectancy: 2 to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ath and A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ge III-Full blown AIDS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of rar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pportunistic infe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take advantage the weakened immune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dies in a matter of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related illnesses include rare cancers and Pneumo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09480" y="137160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def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1200" t="1664" r="1200" b="4323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375600" cy="40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s of HIV Inf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V 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V is thought to have entered into humans somewhere between 1914 and 194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1983, a retrovirus, now called human immunodeficiency virus (HIV), had been identified as the cause of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IV antibody test has be used to screen all blood supplies in the U.S. since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99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receiving blood or blood products before 1985 may have been 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HIV_sta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DS</a:t>
            </a:r>
            <a:br>
              <a:rPr sz="40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quir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ndrom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mmune crippling disease caused by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 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which the body becomes unable to protect itself against any secondary inf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IV-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ma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munodeficienc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V infects the immune system cell called th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elper T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-most important white blood cell involved in identifying infection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685800" y="175248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dy Fluids with High Concentrations of HIV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en/Vaginal fluids (as high as bl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 from s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600200"/>
            <a:ext cx="8076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01-01_microorganisms_1"/>
          <p:cNvPicPr/>
          <p:nvPr/>
        </p:nvPicPr>
        <p:blipFill>
          <a:blip r:embed="rId1"/>
          <a:srcRect l="68232" t="47288" r="1795" b="13729"/>
          <a:stretch/>
        </p:blipFill>
        <p:spPr>
          <a:xfrm>
            <a:off x="3962520" y="2895480"/>
            <a:ext cx="4876560" cy="37353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w concentrations of HI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highly unlikely you will be infected if you come into contact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va (-highly possible if blood from mouth sores is pres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type of sexual activity (highest ris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used drug nee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-from mother to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razors- if blood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ssing- if even the smallest amount of blood is present. (-membranes of mouth are thin enough for HIV to enter straight into the bod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ttoos/body piercing if equipment is not cle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HIV not sprea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ing h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p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ilet s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ct b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ng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85800" y="12952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 HIV be cure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rugs are available to manage the disease, but HIV stays in the body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NA viruses mutate at a very high rate.  A person with HIV under control can evolve resistance to the drug trea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ed persons have several strains of HIV in their bod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12952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3:18:47Z</dcterms:created>
  <dc:creator>Allen Berard</dc:creator>
  <dc:description>HIV retrovirus disease</dc:description>
  <cp:keywords>HIV retrovirus disease</cp:keywords>
  <dc:language>en-US</dc:language>
  <cp:lastModifiedBy>LEGION2</cp:lastModifiedBy>
  <dcterms:modified xsi:type="dcterms:W3CDTF">2016-01-14T10:08:40Z</dcterms:modified>
  <cp:revision>13</cp:revision>
  <dc:subject>HIV retrovirus disease</dc:subject>
  <dc:title>HIV retrovirus disease</dc:title>
</cp:coreProperties>
</file>